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2F6-701F-4005-8EE9-FF807E06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504-B07D-4BF0-BC67-49BA6F7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68F-0CD0-4FF4-8985-FC83160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B61-46DD-4D69-99AF-55C3AAB4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45B-231A-4913-9752-9BBB660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2F7-9DCC-4122-9C26-F00F73D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F50-6D14-4D52-B093-BC30D9B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64E-A5D8-462A-B137-92389BFE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AF7-491E-4F7B-86E0-B3EA1CA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ECB-BA10-42BA-988E-D740205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ECE-2B82-4858-BF62-4D934E9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F47-904D-490E-8B46-0AD69AE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D27E-ED78-4BF5-AE0E-AEEBF8EB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uasion Argu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side, and argue it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cussing sustainability we have focused on environmental impact of China.  So, in your opinion, which is best: plastic chopsticks, wood chopsticks or other.  Explain why in a few paragraphs with good structure and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54:22Z</dcterms:created>
  <dc:creator>nmt</dc:creator>
  <dc:description/>
  <dc:language>en-US</dc:language>
  <cp:lastModifiedBy>nmt</cp:lastModifiedBy>
  <dcterms:modified xsi:type="dcterms:W3CDTF">2012-05-10T23:54:59Z</dcterms:modified>
  <cp:revision>1</cp:revision>
  <dc:subject/>
  <dc:title>Persuasion Argument </dc:title>
</cp:coreProperties>
</file>